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B19A7-EEA7-4896-8862-B3630D5F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1866C-6872-49D7-AD63-148D1DEC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3ED9A-27CA-492A-90F9-D4C1E914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AFEB1-D8DD-4DF8-8251-7E4F41E1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4385-5664-45DE-999A-7F5D0879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21E1-F41C-4873-9A9E-8039B18D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F631-261E-438A-892B-144BC2B3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C663-A472-4F92-A6A8-1A559ADE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0381-3350-41AF-80C8-1DFD037D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669A-7C2D-4341-9472-AD5766E6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EEED-4B5D-498C-8C4A-7C75A701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9E013-9171-483D-8FE1-80814E46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9CB9-61AB-4E87-A4F0-03E34D2A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2B55-CD98-4513-B659-9F683035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9AC6-DDD9-405C-A6B4-CF6954DD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1B20-14E2-4795-B902-1DA9B26E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5F88-2E8B-4886-AF2E-9BB299D1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A748B-B22B-4ED4-B075-DBA06BD8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29BA1-A224-43A0-BF68-3C0CA0CC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11852-386D-42E8-8376-616381E7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C64D7-ADBB-4496-B741-F9738B3B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841AE-EB72-4975-B3FC-C036811C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487B3-6299-4914-BFC9-E59C0714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1C060-AD1A-428D-A76D-1BA796B0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2FF1-8688-4265-9302-4B7C0083D21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BC13-748B-4989-8D78-A16102DEA4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8800" y="2214720"/>
            <a:ext cx="7854840" cy="23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Дискуссия</a:t>
            </a:r>
            <a:br>
              <a:rPr sz="2500"/>
            </a:b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«Трудная ситуация на уроке и ваш выход из неё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484000" y="188640"/>
            <a:ext cx="63356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Monotype Corsiva"/>
              </a:rPr>
              <a:t>Люди уча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Monotype Corsiva"/>
              </a:rPr>
              <a:t>когда они уча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Monotype Corsiva"/>
              </a:rPr>
              <a:t>                  </a:t>
            </a:r>
            <a:r>
              <a:rPr b="1" i="1" lang="ru-RU" sz="2800" spc="-1" strike="noStrike">
                <a:solidFill>
                  <a:srgbClr val="00007d"/>
                </a:solidFill>
                <a:latin typeface="Monotype Corsiva"/>
              </a:rPr>
              <a:t>Сен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pe01561_"/>
          <p:cNvPicPr/>
          <p:nvPr/>
        </p:nvPicPr>
        <p:blipFill>
          <a:blip r:embed="rId1"/>
          <a:stretch/>
        </p:blipFill>
        <p:spPr>
          <a:xfrm>
            <a:off x="0" y="3816360"/>
            <a:ext cx="4583160" cy="3041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5000760" y="5500800"/>
            <a:ext cx="38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: социальный педагог Малькова Юлия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дагогические ситу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ница математики молодая. Пришла проводить урок алгебры в 8-м классе. Она заметила, что под столом учителя сидит ученик, но сделала вид, что не видит, и быстро, в темпе, начала урок, но так, чтобы все работали. Учащиеся с мест выкрикивали: «Коряга под столом!» (так дразнили мальчика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 ПЕРВЫ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читай школу местом, не совсем достойным применения твоих выдающихся способностей, местом, куда тебя как бы сослали. Школа не нуждается в твоем снисхожд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ТОРОЙ СОВЕТ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 себя, свой образ. Учитель индивидуален, иначе не может быть речи о творч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ТИЙ СОВЕТ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амыкайся в своем учительстве. Если учитель — только учитель, то скучно. Ты должен быть интересен дет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Советы молодому учителю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j0413638"/>
          <p:cNvPicPr/>
          <p:nvPr/>
        </p:nvPicPr>
        <p:blipFill>
          <a:blip r:embed="rId1"/>
          <a:stretch/>
        </p:blipFill>
        <p:spPr>
          <a:xfrm>
            <a:off x="7385040" y="4797360"/>
            <a:ext cx="142416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Советы молодому учите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ВЕРТЫЙ СОВЕТ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ни о комплексном характере учительского труда. Все имеет значение, все нужно: и эрудиция, и методика, и внеклассная работа, и психология общения, и любовь к детям, и дисципл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ЫИ СОВЕТ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ь счастливым.   Будь оптимистом! Верь! Ужасно, когда учитель не видит ничего хорошего ни в настоящем, ни в будущ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СТОЙ СОВЕТ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ь честным и правдив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очень высоко ценят чес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j0413638"/>
          <p:cNvPicPr/>
          <p:nvPr/>
        </p:nvPicPr>
        <p:blipFill>
          <a:blip r:embed="rId1"/>
          <a:stretch/>
        </p:blipFill>
        <p:spPr>
          <a:xfrm>
            <a:off x="7385040" y="4797360"/>
            <a:ext cx="142416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Советы молодому учите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Т СЕДЬМОЙ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и юмор в общении с уче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 бойся смешного, не бойся быть смешным. Другое дело, если над тобой смеются постоянно, если ты  вообще смешон — это вс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Т ВОСЬМОЙ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ь естественным, не притворяйся, не старайся казаться умнее и лучше, чем ты есть. Играй себ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Т ДЕВЯТЫЙ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оображай о себе больше того, кто ты есть на самом  деле. Знай себе цену и будь скром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СЯТЫЙ СОВЕТ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ети гражданскую позицию. Помни, что у тебя есть дети, и эта позиция нужна. Гражданская позиция прежде нравственн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j0413638"/>
          <p:cNvPicPr/>
          <p:nvPr/>
        </p:nvPicPr>
        <p:blipFill>
          <a:blip r:embed="rId1"/>
          <a:stretch/>
        </p:blipFill>
        <p:spPr>
          <a:xfrm>
            <a:off x="7380360" y="5013360"/>
            <a:ext cx="142380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263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7d"/>
                </a:solidFill>
                <a:latin typeface="Arial"/>
              </a:rPr>
              <a:t>«Знания и умения учителя – </a:t>
            </a:r>
            <a:br>
              <a:rPr sz="3600"/>
            </a:br>
            <a:r>
              <a:rPr b="1" i="1" lang="ru-RU" sz="3600" spc="-1" strike="noStrike">
                <a:solidFill>
                  <a:srgbClr val="00007d"/>
                </a:solidFill>
                <a:latin typeface="Arial"/>
              </a:rPr>
              <a:t>залог творчества и успех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2565000"/>
            <a:ext cx="8218440" cy="25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7" descr="j0335739"/>
          <p:cNvPicPr/>
          <p:nvPr/>
        </p:nvPicPr>
        <p:blipFill>
          <a:blip r:embed="rId1"/>
          <a:stretch/>
        </p:blipFill>
        <p:spPr>
          <a:xfrm>
            <a:off x="3059280" y="3357720"/>
            <a:ext cx="3313080" cy="3073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 причины конфликтов между               педагогом и обучающими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480" y="1643040"/>
            <a:ext cx="8643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ативная оценка личности обучающегося, а не конкретного поступ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ативная   оценка   поступка   учащегося   без   разбора   его   мотивов,   учёта   личных особен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умение педагога прогнозировать поведение учеников на уроке, или занят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 отношений, сложившихся между педагогом и отдельными учениками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ные   качества   педагога   (раздражительность, самодовольство, беспомощность и др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а воздействия на личность           школьника в конфликтной ситу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Два возбужденных человека не в состоянии прийти к соглас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 ЗАДЕРЖКА  РЕАКЦИ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ПЕРЕВОД  РЕАКЦИИ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РАЦИОНАЛИЗАЦИЯ СИТУАЦИИ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 преодоления конфликтной ситуации педагогу необходим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 Раскрыть её прич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 Не допустить перехода в длительный             конфли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 Завладеть ситуацией, использовать её          познавательные и воспитательные стор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 Найти пути предупреждения или погашения конфли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 Поддержать даже «плохих» воспитанников.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Педагогические ситуац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туация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лодая учительница, впервые вошедшая в класс к шестиклассникам, увидела, что дети приветствуют ее, стоя на стульях. Замешательство длилось несколько секунд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дагогические ситу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79280" y="1213920"/>
            <a:ext cx="8964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фликтная ситуация. С 1 сентября в школе начала работать по совместительству молодая учительница музы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первых дней у нее начался конфликт с учащимися 7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нце первой четверти, когда учительница пришла на урок, она увидела, что все учащиеся стоят, повернувшись спиной к двери, и тихо поют песню «Летка-Енка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дагогические ситу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К  уроку русского языка учащиеся натерли доску салом. Я  об этом догадался, так как доска блестела. Класс с нетерпением ждал, когда я начну писать на доск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дагогические ситу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…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одой учитель истории. Урок в 10-м классе. Класс совершенно неуправляем. Перед уроком учитель волнуется, заглядывает в дверь – галдят. Он заходит, здоровается – на него ноль эмоций. Тогда он вышел из класса, подумал и поступил следующим образ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7:39:20Z</dcterms:created>
  <dc:creator> </dc:creator>
  <dc:description/>
  <dc:language>en-US</dc:language>
  <cp:lastModifiedBy>1</cp:lastModifiedBy>
  <dcterms:modified xsi:type="dcterms:W3CDTF">2025-10-15T21:29:27Z</dcterms:modified>
  <cp:revision>40</cp:revision>
  <dc:subject/>
  <dc:title>Семинар-практикум «Организация работы с молодыми и начинающими специалистами»</dc:title>
</cp:coreProperties>
</file>